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144-D940-4C89-9C19-AFDF734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56B-E6E2-4E9F-81B2-CD4EDB6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525-5899-4A08-A105-16F699E2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931-BB38-4079-AEB3-FE8731F8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631-0DD5-4A83-895D-51A48FE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EF1-6D62-4B46-8952-5AC744B7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1A-CA8B-41FB-AB76-3B38621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ECD-E39B-4E3F-B38E-D4F0CE6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A39-816E-48D0-9136-D3E8650D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E3A-8237-4BDB-BF3D-6C81EA3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8F9-D89A-4C14-B2DA-BDF86B6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286-7B90-49E8-95BD-58884AB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0C9-F112-4FE1-9377-E3078AA6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0" y="-6480"/>
            <a:ext cx="9144000" cy="6864480"/>
            <a:chOff x="0" y="-6480"/>
            <a:chExt cx="9144000" cy="6864480"/>
          </a:xfrm>
        </p:grpSpPr>
        <p:pic>
          <p:nvPicPr>
            <p:cNvPr id="42" name="Picture 6" descr="4"/>
            <p:cNvPicPr/>
            <p:nvPr/>
          </p:nvPicPr>
          <p:blipFill>
            <a:blip r:embed="rId1"/>
            <a:srcRect l="0" t="0" r="0" b="7405"/>
            <a:stretch/>
          </p:blipFill>
          <p:spPr>
            <a:xfrm>
              <a:off x="0" y="-6480"/>
              <a:ext cx="914400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5"/>
            <p:cNvSpPr txBox="1"/>
            <p:nvPr/>
          </p:nvSpPr>
          <p:spPr>
            <a:xfrm>
              <a:off x="1258920" y="1557360"/>
              <a:ext cx="7200720" cy="20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00"/>
                  </a:solidFill>
                  <a:latin typeface="黑体"/>
                </a:rPr>
                <a:t>设计秋游方案（一）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2000160" y="1500120"/>
            <a:ext cx="4857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黑体"/>
              </a:rPr>
              <a:t>亲子秋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黑体"/>
              <a:ea typeface="黑体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28760" y="3286080"/>
            <a:ext cx="80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设计亲子秋游方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47" name="Picture 8" descr="sy_20091114232827472021"/>
          <p:cNvPicPr/>
          <p:nvPr/>
        </p:nvPicPr>
        <p:blipFill>
          <a:blip r:embed="rId4"/>
          <a:srcRect l="30575" t="9761" r="27854" b="9519"/>
          <a:stretch/>
        </p:blipFill>
        <p:spPr>
          <a:xfrm>
            <a:off x="3594240" y="4714920"/>
            <a:ext cx="169200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3286080" y="142920"/>
            <a:ext cx="207180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秋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857160" y="78588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活动地点：永康方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857160" y="400068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活动时间：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月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日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://www.jinhua.gov.cn/picture/0/1111291708055699441.jpg"/>
          <p:cNvPicPr/>
          <p:nvPr/>
        </p:nvPicPr>
        <p:blipFill>
          <a:blip r:embed="rId2"/>
          <a:stretch/>
        </p:blipFill>
        <p:spPr>
          <a:xfrm>
            <a:off x="2643120" y="1571760"/>
            <a:ext cx="2809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000080" y="1285920"/>
          <a:ext cx="7215120" cy="3230640"/>
        </p:xfrm>
        <a:graphic>
          <a:graphicData uri="http://schemas.openxmlformats.org/drawingml/2006/table">
            <a:tbl>
              <a:tblPr/>
              <a:tblGrid>
                <a:gridCol w="1805040"/>
                <a:gridCol w="1627200"/>
                <a:gridCol w="3782880"/>
              </a:tblGrid>
              <a:tr h="56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仿宋"/>
                          <a:ea typeface="仿宋"/>
                        </a:rPr>
                        <a:t>准备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仿宋"/>
                          <a:ea typeface="仿宋"/>
                        </a:rPr>
                        <a:t>负责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仿宋"/>
                          <a:ea typeface="仿宋"/>
                        </a:rPr>
                        <a:t>要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仿宋"/>
                          <a:ea typeface="仿宋"/>
                        </a:rPr>
                        <a:t>交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仿宋"/>
                          <a:ea typeface="仿宋"/>
                        </a:rPr>
                        <a:t>车型、限乘人数、费用、旅途时间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0"/>
          <p:cNvSpPr/>
          <p:nvPr/>
        </p:nvSpPr>
        <p:spPr>
          <a:xfrm>
            <a:off x="2428920" y="5731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们的分工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857160" y="507204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我们小组有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个伙伴，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负责收集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方面的材料和数据，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负责收集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方面的材料和数据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571760" y="132804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你收集到的材料和数据选择合适的方法记录在下面的框内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"/>
          <p:cNvSpPr/>
          <p:nvPr/>
        </p:nvSpPr>
        <p:spPr>
          <a:xfrm>
            <a:off x="1428840" y="2143080"/>
            <a:ext cx="6286320" cy="3357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71760" y="429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计亲子秋游方案预学单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214280" y="1144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你们小组收集到的材料和数据整理一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71760" y="429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计亲子秋游方案预学单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285920" y="1643040"/>
            <a:ext cx="6715080" cy="5072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1285920" y="4143240"/>
            <a:ext cx="66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28920" y="2000160"/>
          <a:ext cx="5319720" cy="1774800"/>
        </p:xfrm>
        <a:graphic>
          <a:graphicData uri="http://schemas.openxmlformats.org/drawingml/2006/table">
            <a:tbl>
              <a:tblPr/>
              <a:tblGrid>
                <a:gridCol w="1836720"/>
                <a:gridCol w="1144440"/>
                <a:gridCol w="1065240"/>
                <a:gridCol w="1273320"/>
              </a:tblGrid>
              <a:tr h="703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旅游车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限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往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往返所需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Line 2"/>
          <p:cNvSpPr/>
          <p:nvPr/>
        </p:nvSpPr>
        <p:spPr>
          <a:xfrm>
            <a:off x="1285920" y="5286240"/>
            <a:ext cx="66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216440" y="2428920"/>
            <a:ext cx="11552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交 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1236960" y="4286160"/>
            <a:ext cx="1155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门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1236960" y="5715000"/>
            <a:ext cx="1155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214280" y="1144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你们小组收集到的材料和数据整理一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71760" y="429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计亲子秋游方案预学单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285920" y="1643040"/>
            <a:ext cx="6715080" cy="5072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"/>
          <p:cNvSpPr/>
          <p:nvPr/>
        </p:nvSpPr>
        <p:spPr>
          <a:xfrm>
            <a:off x="1285920" y="4143240"/>
            <a:ext cx="66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428920" y="2000160"/>
          <a:ext cx="5319720" cy="1774800"/>
        </p:xfrm>
        <a:graphic>
          <a:graphicData uri="http://schemas.openxmlformats.org/drawingml/2006/table">
            <a:tbl>
              <a:tblPr/>
              <a:tblGrid>
                <a:gridCol w="1836720"/>
                <a:gridCol w="1144440"/>
                <a:gridCol w="1065240"/>
                <a:gridCol w="1273320"/>
              </a:tblGrid>
              <a:tr h="64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旅游车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限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往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往返所需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巴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巴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2"/>
          <p:cNvSpPr/>
          <p:nvPr/>
        </p:nvSpPr>
        <p:spPr>
          <a:xfrm>
            <a:off x="1285920" y="5286240"/>
            <a:ext cx="66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1216440" y="2428920"/>
            <a:ext cx="11552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交 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1236960" y="4286160"/>
            <a:ext cx="1155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门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1236960" y="5715000"/>
            <a:ext cx="1155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3071880" y="4214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人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3071880" y="4786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儿童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071880" y="5500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午餐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071880" y="5967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奖品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2d176025c66aaf548b82a1f8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523880" y="1000080"/>
          <a:ext cx="6262920" cy="5578560"/>
        </p:xfrm>
        <a:graphic>
          <a:graphicData uri="http://schemas.openxmlformats.org/drawingml/2006/table">
            <a:tbl>
              <a:tblPr/>
              <a:tblGrid>
                <a:gridCol w="6262920"/>
              </a:tblGrid>
              <a:tr h="557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活动地点：永康方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活动时间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01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日一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计参与人数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人，其中学生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行程安排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费用估计（需要计算的请在表格下面写出计算过程）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643040" y="2246400"/>
          <a:ext cx="6019920" cy="2413080"/>
        </p:xfrm>
        <a:graphic>
          <a:graphicData uri="http://schemas.openxmlformats.org/drawingml/2006/table">
            <a:tbl>
              <a:tblPr/>
              <a:tblGrid>
                <a:gridCol w="1233360"/>
                <a:gridCol w="3214800"/>
                <a:gridCol w="157176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估计所需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00—7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体在学校操场集合、上车出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43040" y="5246640"/>
          <a:ext cx="6095880" cy="7412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门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"/>
          <p:cNvSpPr/>
          <p:nvPr/>
        </p:nvSpPr>
        <p:spPr>
          <a:xfrm>
            <a:off x="2571840" y="21564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的亲子秋游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3"/>
          <p:cNvSpPr txBox="1"/>
          <p:nvPr/>
        </p:nvSpPr>
        <p:spPr>
          <a:xfrm>
            <a:off x="1258920" y="1484280"/>
            <a:ext cx="58341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谢谢，再见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4:05:07Z</dcterms:created>
  <dc:creator/>
  <dc:description/>
  <dc:language>en-US</dc:language>
  <cp:lastModifiedBy/>
  <dcterms:modified xsi:type="dcterms:W3CDTF">2016-06-16T07:55:11Z</dcterms:modified>
  <cp:revision>46</cp:revision>
  <dc:subject/>
  <dc:title/>
</cp:coreProperties>
</file>